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419-BCFB-4C8C-B398-C1B6F31A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A6B-CAE8-46B0-8618-778E86FD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D9C-10BF-48CA-BE1E-F7F3F51F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31D-CCF8-4D45-A8C8-3724E2D2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EBB-A7BD-4E22-84BB-921E368B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A8C-EF14-4786-BB57-FE172522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094-EDB5-4DEA-8105-1A912DFF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FC3-4C6C-4D7D-810D-61FD4890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B6C-E8EA-41ED-BDB4-6B359426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079-C6C9-4B10-9145-FD735ED1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261-63E4-4782-9F34-6B88A0F6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573-53EF-4331-A469-1B6D2A45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D322-97A4-4C00-ADC1-C57287F3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 лисы Алисы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ые монеты, а у кота Базилио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ая монета.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колько всего золотых моне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 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2952720" cy="18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484360" y="3645000"/>
            <a:ext cx="40006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известные числа или данные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414972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Сколько всего 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6160" y="414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88000" y="4292640"/>
            <a:ext cx="2038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вопрос задачи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2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4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920" y="4797360"/>
            <a:ext cx="2232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щее число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4520" y="4724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35640" y="4869000"/>
            <a:ext cx="1143000" cy="14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известно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5300640"/>
            <a:ext cx="5315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 помощью данных чисел можно найти неизвестное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27640" y="5300640"/>
            <a:ext cx="1971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решить задач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Из чего состоит зада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1187280" y="1844640"/>
            <a:ext cx="119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Услов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2565360"/>
            <a:ext cx="97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опрос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58920" y="335772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хема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87280" y="4149720"/>
            <a:ext cx="1505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ыраж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58920" y="4869000"/>
            <a:ext cx="1123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Реш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5589720"/>
            <a:ext cx="8287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Ответ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1916280"/>
            <a:ext cx="1333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 лисы Алисы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4" name="Рисунок 0" descr="1783italianstatevenicegoldzecchinoobv400.jpg"/>
          <p:cNvPicPr/>
          <p:nvPr/>
        </p:nvPicPr>
        <p:blipFill>
          <a:blip r:embed="rId1"/>
          <a:stretch/>
        </p:blipFill>
        <p:spPr>
          <a:xfrm>
            <a:off x="471636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0" descr="1783italianstatevenicegoldzecchinoobv400.jpg"/>
          <p:cNvPicPr/>
          <p:nvPr/>
        </p:nvPicPr>
        <p:blipFill>
          <a:blip r:embed="rId2"/>
          <a:stretch/>
        </p:blipFill>
        <p:spPr>
          <a:xfrm>
            <a:off x="500364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0" descr="1783italianstatevenicegoldzecchinoobv400.jpg"/>
          <p:cNvPicPr/>
          <p:nvPr/>
        </p:nvPicPr>
        <p:blipFill>
          <a:blip r:embed="rId3"/>
          <a:stretch/>
        </p:blipFill>
        <p:spPr>
          <a:xfrm>
            <a:off x="5292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651640" y="1916280"/>
            <a:ext cx="178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 а у кота Базилио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8" name="Рисунок 0" descr="1783italianstatevenicegoldzecchinoobv400.jpg"/>
          <p:cNvPicPr/>
          <p:nvPr/>
        </p:nvPicPr>
        <p:blipFill>
          <a:blip r:embed="rId4"/>
          <a:stretch/>
        </p:blipFill>
        <p:spPr>
          <a:xfrm>
            <a:off x="7524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276720" y="2565360"/>
            <a:ext cx="5256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колько всего золотых монет у лисы Алисы и кота Базилио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56000" y="40766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3 + 1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67280" y="4941720"/>
            <a:ext cx="1190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+ 1 = 4 (м.)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55897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золотые мо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012000" y="3573360"/>
            <a:ext cx="2592360" cy="1809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564000" y="3141720"/>
            <a:ext cx="16635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1:02:28Z</dcterms:created>
  <dc:creator>Sergey</dc:creator>
  <dc:description/>
  <dc:language>en-US</dc:language>
  <cp:lastModifiedBy>Sergey</cp:lastModifiedBy>
  <dcterms:modified xsi:type="dcterms:W3CDTF">2012-01-16T18:08:12Z</dcterms:modified>
  <cp:revision>4</cp:revision>
  <dc:subject/>
  <dc:title>У</dc:title>
</cp:coreProperties>
</file>